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A94-44C7-4C7B-8EA6-BB622CA7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6ED-5FB2-4569-8AB1-048811E4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422-2F84-49B9-91C1-A7D30B6A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E6A-15E9-4C73-AC9E-57967ED3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3768-A330-4A34-B857-44024C86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6FC5-CA08-44AC-95EA-AE6F517D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F541-0C9C-4CB7-AB20-86A091B2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9FE8-4348-47FC-A3CB-19DF1247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DE8C-8BF1-4BF6-BF09-5508CF1C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C3FA-1DFB-4175-927E-9C6B4CB4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808-2C9E-4981-B938-BE9CC0D7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39B-1DEB-4AF8-9722-7A769D3C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B058-873C-4087-989A-91374A2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FBBA-8F0E-4C7C-B886-3B34F3FB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AEA-DD62-4C1C-849E-23400DFD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C985-0B33-4DC9-ACCE-A5406911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436A-B23D-466C-AAC5-65875903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90D-0210-4587-8FA9-41EDC980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752-17BE-4B27-A0A5-344A7CEA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592-33D6-4BFB-B564-06BDF188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A24-48A8-4DCB-B335-1A4E1BE7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FF0-C061-47B6-9AFC-9812FCD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ACC-BCC2-4251-AB78-F8262A3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514-7405-4C4E-AF7C-05F70070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4DAB-0481-4C38-A0E8-728B2378BE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AEC0-B79F-4BF1-8622-3E9641054E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vc.cervantes.e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anslationtown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glish-spanish-translator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ranslationjournal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UPO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43200" y="501336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isa Dazidov, Daniela Baluta, Beatriz Aparicio, David Ló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ASOCIACION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ww.atane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erican Translation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asociación de traductores más grande de Estados Un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URSOS Y SEMINARI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ampere.edu.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uela de traductores e interpretes donde además se ofrecen cursos a distancia y presenciales de traducción e interpre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GRACIAS POR VUESTRA ATEN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33720" y="2790720"/>
            <a:ext cx="359100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FOR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ww.cvc.cervantes.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á dividido en cuatro par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añ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ác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hispa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 (Tecnología y comunic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FOR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ww.translationtow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ene glosarios de vocabulario especializado, información de escuelas de idiomas y traducción, información de asociaciones de traductores, diccionarios onlin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FOR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ww.english-spanish-translato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foro divido en áreas de medicina, traducción jurídica, traducción de marketing, traducción técnic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REVISTAS Y BOLETINES DE NOTICI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ww.translationjournal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e artículos organizados por meses de aportación de arch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REVISTAS Y BOLETINES DE NOTICI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ranslationtown.com/tt/datos/newsletter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encontrar multitud de artículos y noticias de actu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ASOCIACION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peti.org.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ón española profesional de traductores e interpr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ASOCIACION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ww.fit-if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tional Federation of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voz de todas las asociaciones de tradu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ASOCIACION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eatl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ene información actualizada sobre los congresos, citas y noticias relacionadas con el mundo de la tra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6:45:11Z</dcterms:created>
  <dc:creator>noborrar</dc:creator>
  <dc:description/>
  <dc:language>en-US</dc:language>
  <cp:lastModifiedBy>noborrar</cp:lastModifiedBy>
  <dcterms:modified xsi:type="dcterms:W3CDTF">2011-09-28T17:03:10Z</dcterms:modified>
  <cp:revision>2</cp:revision>
  <dc:subject/>
  <dc:title>GRUPO 7</dc:title>
</cp:coreProperties>
</file>